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B769-70E5-4D51-A162-095524A28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D3EC-0FDA-4AD1-A2D8-F8D491D3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0D33-D9EA-46C2-8876-8E4BAF7D0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8FAB-2DEE-49F2-B41C-6A0F310EC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09FB-A4AA-46E9-90FD-AA2F5128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C67F-FCED-497D-B0CF-A1AF0373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8927-300B-470C-89E5-D51C9F49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403A-90EE-4BCE-BF95-FD483BE3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8887-5012-4155-B10E-E52DA693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867B-7DCB-46EC-8E9C-10F1B8DB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5524-020A-420F-ACAD-E26879E8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751D-3B4F-4CFF-AFC2-4C53940C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B77C-1134-4D79-BDE2-E9FD108E193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ience Seminar Updat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y TWO more presentation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280" y="1722240"/>
            <a:ext cx="883944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: The presentation more research-based and detailed, providing a hand-out to your classmates in which to guide note-ta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ing period: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lution &amp; a 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scribe a pollutant, where it comes from, what problems it causes, and how we can clean it up, either by discussing a regula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n environmental law) that deals with it) or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oengineering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 temporary technological f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ke a powerpoint AND a hand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 will photocopy it for your classm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esentation sli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the pollutant 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us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ffect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 specific regulation (law) OR Geoengineering technology and how it wor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orks cited list (&gt; 3 resourc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andout: ½ to 1 full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ke “guided notes” for your peers so they don’t need to scribble down all the inform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You will have a “pollution test” based on the class presentation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12:57:08Z</dcterms:created>
  <dc:creator>Preferred Customer</dc:creator>
  <dc:description/>
  <dc:language>en-US</dc:language>
  <cp:lastModifiedBy>Johnson</cp:lastModifiedBy>
  <cp:lastPrinted>2013-02-12T12:58:34Z</cp:lastPrinted>
  <dcterms:modified xsi:type="dcterms:W3CDTF">2013-02-12T13:09:01Z</dcterms:modified>
  <cp:revision>55</cp:revision>
  <dc:subject/>
  <dc:title>Chapters 8, 9, and 10</dc:title>
</cp:coreProperties>
</file>